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E345BC-AFF8-4338-B540-9A9C7E905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CA9DC5-4D48-4535-A171-9B580DB3C907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7DA6E9-F1E6-41C4-B18F-E224728D0B0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dt" idx="24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F924F5-86BA-447E-89AC-757BC8AE51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26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466281-1355-4CA9-97E0-C3856ABAB5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8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5BCBD9-A55F-4552-A827-5D003C4E28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dt" idx="30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D7535B-F42A-40E3-96E9-F048FF57B78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FAFCC0-275A-4090-9EF6-36FD78865B3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104138-7DC3-4D52-9F77-F6AC97629C18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B223C1-AFEA-4B0F-8C3B-5A3B15FBF5EB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3CB620-B230-439C-8831-1C7C751D003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B41C1A-102A-435F-989E-C4B0E094FE7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9967A0-FF7A-4E57-B4E4-7B5FB40D64F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615F5-43AD-4670-A2C1-0969D918558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9D7655-3650-49FA-9FB9-0DEEE0D2D7CB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7F6FA4-7403-4596-B9B8-21CC28A1A4B2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dt" idx="21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8EEC83-1268-4D44-A231-EC77F3A28BF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294-A766-49CE-AE24-77393214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354-D692-4AA6-B1BA-F8C34AE8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7E5-2894-428F-9842-0BDD253D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C85-370F-4714-94BE-3532BC60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5C85-6791-4FE6-A118-6804E8CA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14C4-1447-46B7-8C61-877346BF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E55E-6527-4784-89C6-6AAE5C95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8DE7-9E86-4123-88D1-18E096EC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1535-BF71-4769-ADB2-B77249D6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8332-A0EB-43E1-B207-57D9CEF4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C213-AF2E-4903-B588-7847779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9CD-B114-40A5-B2C9-C2630793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BC66-6F99-4099-948E-B6B7018D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0092-0A2F-47E9-90B4-B3DC1E59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76F3-E0BA-434F-98F4-2339C129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CB4D-DE20-4A97-A481-24FB2165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3C37-4266-4678-98AD-257F8679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5853-CF50-4460-9572-0AD4159A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A0A7-A13B-47BD-8DF1-4FF049D6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305D-32F5-4822-A616-9C2407D2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6650-25CD-40B6-9E0F-68C2E92D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4825-D75C-4D3F-BEC4-43A9EF6F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447-4991-4784-B4BB-88A04320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E56FC-5968-4109-AE7C-6D24663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7B56C-1B62-41B0-A2D2-BF49CF4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21B9-C512-4A86-9690-9D8EEEC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EA17-A8AA-4011-8D51-20D57713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E2DB-C0C3-4177-99DD-1BE9902D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78AF-A9F9-49C2-8A0D-B2EC75AB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22D8-FD31-4D80-BEFD-AF871605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1C2-E3AC-4451-AA51-C48BB5BD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795-6D2D-45C9-9E22-00DD09BD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39D-D43C-4D02-ACBA-C095CA08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BDA-3004-4A07-BCB8-BCED83C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D42-C399-4483-BFF5-6555079F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168-5D9E-4374-A6E9-F904F56F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A238F0-76D5-4A6A-AEC6-8A73BD221BFE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4D5896-BBB4-4C98-81A7-294A9EEA4024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4C1917-3202-46E1-9CE4-369B94D2BACE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in/link/Programma%20Predefinito%206%20%20estratto%20dal%20PNP%202020-2025.pdf" TargetMode="External"/><Relationship Id="rId2" Type="http://schemas.openxmlformats.org/officeDocument/2006/relationships/hyperlink" Target="file:///tmp/in/link/Programma%20Predefinito%207%20estratto%20dal%20PNP%202020-2025.pdf" TargetMode="External"/><Relationship Id="rId3" Type="http://schemas.openxmlformats.org/officeDocument/2006/relationships/hyperlink" Target="file:///tmp/in/link/Programma%20Predefinito%208%20estratto%20dal%20PNP%202020-2025.pdf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delibere.regione.sardegna.it/it/homepage.page?selectedNode=date_2021_12_28" TargetMode="External"/><Relationship Id="rId2" Type="http://schemas.openxmlformats.org/officeDocument/2006/relationships/hyperlink" Target="https://delibere.regione.sardegna.it/it/homepage.page?selectedNode=date_2021_12_28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ttangolo 1"/>
          <p:cNvSpPr/>
          <p:nvPr/>
        </p:nvSpPr>
        <p:spPr>
          <a:xfrm>
            <a:off x="0" y="783720"/>
            <a:ext cx="914364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it-IT" sz="2400" spc="-1" strike="noStrike">
                <a:solidFill>
                  <a:srgbClr val="00b050"/>
                </a:solidFill>
                <a:latin typeface="Calibri"/>
              </a:rPr>
              <a:t>Piano Regionale della Prevenzione 2020-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</a:pPr>
            <a:r>
              <a:rPr b="1" lang="it-IT" sz="2400" spc="-1" strike="noStrike">
                <a:solidFill>
                  <a:srgbClr val="00b050"/>
                </a:solidFill>
                <a:latin typeface="Calibri"/>
              </a:rPr>
              <a:t>Programma Predefinito PP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IANO MIRATO DI PREVEN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DEL RISCHIO LEGATO ALL’UTILIZZO DI ATTREZZATURE AGRICOLE NEL SETTORE DELLAGRICOLTURA E SULLA PROMOZIONE DELLA QUALITA’, DELL’APPROPIATEZZA E DELL’EFFEICACIA A DELLA SORVEGLIAZA SANITARIA PREVENTIVA E PERIODICA SVOLTA DAI MEDICI COMPET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5"/>
          <p:cNvSpPr/>
          <p:nvPr/>
        </p:nvSpPr>
        <p:spPr>
          <a:xfrm>
            <a:off x="5123520" y="4365000"/>
            <a:ext cx="412848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EMINARIO DI AVV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Data 30.09.20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Luogo IGLES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magine 2" descr=""/>
          <p:cNvPicPr/>
          <p:nvPr/>
        </p:nvPicPr>
        <p:blipFill>
          <a:blip r:embed="rId1"/>
          <a:stretch/>
        </p:blipFill>
        <p:spPr>
          <a:xfrm>
            <a:off x="7652160" y="9792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32" name="CasellaDiTesto 4"/>
          <p:cNvSpPr/>
          <p:nvPr/>
        </p:nvSpPr>
        <p:spPr>
          <a:xfrm>
            <a:off x="8100360" y="141480"/>
            <a:ext cx="10252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magine 7" descr=""/>
          <p:cNvPicPr/>
          <p:nvPr/>
        </p:nvPicPr>
        <p:blipFill>
          <a:blip r:embed="rId2"/>
          <a:stretch/>
        </p:blipFill>
        <p:spPr>
          <a:xfrm>
            <a:off x="-330840" y="11160"/>
            <a:ext cx="2843280" cy="728640"/>
          </a:xfrm>
          <a:prstGeom prst="rect">
            <a:avLst/>
          </a:prstGeom>
          <a:ln w="0">
            <a:noFill/>
          </a:ln>
        </p:spPr>
      </p:pic>
      <p:pic>
        <p:nvPicPr>
          <p:cNvPr id="134" name="Immagine 8" descr=""/>
          <p:cNvPicPr/>
          <p:nvPr/>
        </p:nvPicPr>
        <p:blipFill>
          <a:blip r:embed="rId3"/>
          <a:stretch/>
        </p:blipFill>
        <p:spPr>
          <a:xfrm>
            <a:off x="3780000" y="111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9"/>
          <p:cNvSpPr/>
          <p:nvPr/>
        </p:nvSpPr>
        <p:spPr>
          <a:xfrm>
            <a:off x="4212000" y="73800"/>
            <a:ext cx="18230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Capofi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sede di Sanlu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ttangolo arrotondato 27"/>
          <p:cNvSpPr/>
          <p:nvPr/>
        </p:nvSpPr>
        <p:spPr>
          <a:xfrm>
            <a:off x="504000" y="939240"/>
            <a:ext cx="8135640" cy="617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Macro Obiettivi del Piano Nazionale della Prevenzione 2020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7"/>
          <p:cNvSpPr/>
          <p:nvPr/>
        </p:nvSpPr>
        <p:spPr>
          <a:xfrm>
            <a:off x="504000" y="1989000"/>
            <a:ext cx="8135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I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iano Nazionale della Prevenzione (PNP) 2020-2025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comprende i seguenti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6 Macro Obiettiv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1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alattie croniche non trasmissibi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2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Dipendenze e problemi correla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3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Incidenti domestici e strad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ff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MO4 “Infortuni e incidenti sul lavoro, malattie professiona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5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Ambiente, clima e salu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6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alattie infettive priorita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da declinarsi nell’ambito de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iano Regionale della Prevenzione 2020-2025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in appositi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rogrammi</a:t>
            </a:r>
            <a:r>
              <a:rPr b="1" lang="it-IT" sz="1800" spc="-1" strike="noStrike">
                <a:solidFill>
                  <a:srgbClr val="0070c0"/>
                </a:solidFill>
                <a:latin typeface="Arial"/>
                <a:ea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vari dei quali sono predefiniti nel PNP 2020-2025 (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rogrammi Predefinit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 flipV="1">
            <a:off x="215640" y="6328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ccia a destra 1"/>
          <p:cNvSpPr/>
          <p:nvPr/>
        </p:nvSpPr>
        <p:spPr>
          <a:xfrm>
            <a:off x="107640" y="3645000"/>
            <a:ext cx="39600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5" name="Immagine 5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76" name="CasellaDiTesto 9"/>
          <p:cNvSpPr/>
          <p:nvPr/>
        </p:nvSpPr>
        <p:spPr>
          <a:xfrm>
            <a:off x="467640" y="2160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tangolo 10"/>
          <p:cNvSpPr/>
          <p:nvPr/>
        </p:nvSpPr>
        <p:spPr>
          <a:xfrm>
            <a:off x="2202480" y="44604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14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FF7691-11EF-4453-86FF-8838A54B486D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 flipV="1">
            <a:off x="539640" y="561960"/>
            <a:ext cx="831672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CasellaDiTesto 1"/>
          <p:cNvSpPr/>
          <p:nvPr/>
        </p:nvSpPr>
        <p:spPr>
          <a:xfrm>
            <a:off x="168120" y="1923840"/>
            <a:ext cx="8878680" cy="55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I Programmi Predefiniti relativi al M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Infortuni e incidenti sul lavoro, malattie professionali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NP 2020-2025 (ossia  PP6,  PP7,  PP8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ono  incentrati 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ctr">
              <a:lnSpc>
                <a:spcPct val="100000"/>
              </a:lnSpc>
              <a:spcBef>
                <a:spcPts val="360"/>
              </a:spcBef>
              <a:spcAft>
                <a:spcPts val="1199"/>
              </a:spcAft>
              <a:buClr>
                <a:srgbClr val="2016e4"/>
              </a:buClr>
              <a:buFont typeface="Arial"/>
              <a:buChar char="•"/>
            </a:pPr>
            <a:r>
              <a:rPr b="1" lang="it-IT" sz="1800" spc="-1" strike="noStrike" u="sng">
                <a:solidFill>
                  <a:srgbClr val="2016e4"/>
                </a:solidFill>
                <a:uFillTx/>
                <a:latin typeface="Arial"/>
              </a:rPr>
              <a:t>PIANO MIRATO DI PREVEN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M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spcAft>
                <a:spcPts val="1199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onosciuto dal PNP 2020-2025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«</a:t>
            </a:r>
            <a:r>
              <a:rPr b="1" i="1" lang="it-IT" sz="1800" spc="-1" strike="noStrike" u="sng">
                <a:solidFill>
                  <a:srgbClr val="2016e4"/>
                </a:solidFill>
                <a:uFillTx/>
                <a:latin typeface="Arial"/>
              </a:rPr>
              <a:t>strumento in grado di organizzare in modo siner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spcAft>
                <a:spcPts val="1199"/>
              </a:spcAft>
            </a:pPr>
            <a:r>
              <a:rPr b="1" i="1" lang="it-IT" sz="1800" spc="-1" strike="noStrike" u="sng">
                <a:solidFill>
                  <a:srgbClr val="2016e4"/>
                </a:solidFill>
                <a:uFillTx/>
                <a:latin typeface="Arial"/>
              </a:rPr>
              <a:t>le attività di assistenza e di vigilanza alle imprese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8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8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in giù 10"/>
          <p:cNvSpPr/>
          <p:nvPr/>
        </p:nvSpPr>
        <p:spPr>
          <a:xfrm>
            <a:off x="4356000" y="4077000"/>
            <a:ext cx="39636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Immagine 5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83" name="CasellaDiTesto 7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tangolo arrotondato 8"/>
          <p:cNvSpPr/>
          <p:nvPr/>
        </p:nvSpPr>
        <p:spPr>
          <a:xfrm>
            <a:off x="504000" y="939240"/>
            <a:ext cx="8135640" cy="617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O 4 “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Infortuni e incidenti sul lavoro, malattie professionali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tangolo 9"/>
          <p:cNvSpPr/>
          <p:nvPr/>
        </p:nvSpPr>
        <p:spPr>
          <a:xfrm>
            <a:off x="2184120" y="353520"/>
            <a:ext cx="6686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Num" idx="15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2ECDC5-B60A-4276-A501-43D708C465DB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 flipV="1">
            <a:off x="539640" y="561960"/>
            <a:ext cx="846072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asellaDiTesto 1"/>
          <p:cNvSpPr/>
          <p:nvPr/>
        </p:nvSpPr>
        <p:spPr>
          <a:xfrm>
            <a:off x="395640" y="673200"/>
            <a:ext cx="8460720" cy="59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800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e stabilito nel PNP 2020-2025, nell’ambito del Piano Regionale della Prevenzione 2020-2025 devono essere realizz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800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almeno 8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8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6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  comprendere   almeno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iani Mirati di Prevenzione in comp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ersi da edilizia e agrico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7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comprendere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iani  Mirati  di  Prevenzione, di cui 1 in Edilizi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 in Agricol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8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ve   comprendere  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Piani   Mirati   di  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7120" indent="-274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MP del rischio cancerogeno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7120" indent="-274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MP delle patologie professionali dell’apparato muscolo schele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7120" indent="-274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MP del rischio stress correlato al lavoro (con riferimenti al comparto Sanità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ccia in giù 10"/>
          <p:cNvSpPr/>
          <p:nvPr/>
        </p:nvSpPr>
        <p:spPr>
          <a:xfrm>
            <a:off x="4398840" y="2171880"/>
            <a:ext cx="460800" cy="4647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reccia a destra 11"/>
          <p:cNvSpPr/>
          <p:nvPr/>
        </p:nvSpPr>
        <p:spPr>
          <a:xfrm>
            <a:off x="15480" y="3595680"/>
            <a:ext cx="50508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" name="Immagine 8" descr=""/>
          <p:cNvPicPr/>
          <p:nvPr/>
        </p:nvPicPr>
        <p:blipFill>
          <a:blip r:embed="rId4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92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tangolo 13"/>
          <p:cNvSpPr/>
          <p:nvPr/>
        </p:nvSpPr>
        <p:spPr>
          <a:xfrm>
            <a:off x="2385000" y="37620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16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019816-A801-45DB-B87D-034409F11D03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 flipV="1">
            <a:off x="539640" y="561960"/>
            <a:ext cx="849636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vanti o successivo 17">
            <a:hlinkClick r:id="" action="ppaction://hlinkshowjump?jump=nextslide"/>
          </p:cNvPr>
          <p:cNvSpPr/>
          <p:nvPr/>
        </p:nvSpPr>
        <p:spPr>
          <a:xfrm>
            <a:off x="8893080" y="6642000"/>
            <a:ext cx="250560" cy="21564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ttangolo 11"/>
          <p:cNvSpPr/>
          <p:nvPr/>
        </p:nvSpPr>
        <p:spPr>
          <a:xfrm>
            <a:off x="683640" y="799920"/>
            <a:ext cx="78454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601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La scelta, nell’ambito del Piano Regionale della Prevenzione 2020-2025, dei PMP per quei rischi e quei comparti che non sono già stabiliti dal PNP 2020-2025 è stata det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dalle </a:t>
            </a:r>
            <a:r>
              <a:rPr b="1" lang="it-IT" sz="1800" spc="-1" strike="noStrike">
                <a:solidFill>
                  <a:srgbClr val="0070c0"/>
                </a:solidFill>
                <a:latin typeface="Arial"/>
                <a:ea typeface="PMingLiU"/>
              </a:rPr>
              <a:t>specificità territoriali, in ragione delle esigenze derivanti dalle evidenze epidemiologiche e dal contesto socio-occupa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, con particolare riferimento agli eventi infortunistici e tecnopatici più frequenti e più gravi nella popolazione lavorativa sarda, nonc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da</a:t>
            </a:r>
            <a:r>
              <a:rPr b="1" lang="it-IT" sz="1800" spc="-1" strike="noStrike">
                <a:solidFill>
                  <a:srgbClr val="0070c0"/>
                </a:solidFill>
                <a:latin typeface="Arial"/>
                <a:ea typeface="PMingLiU"/>
              </a:rPr>
              <a:t> intervenuti nuovi disposti norm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ccia in giù 10"/>
          <p:cNvSpPr/>
          <p:nvPr/>
        </p:nvSpPr>
        <p:spPr>
          <a:xfrm>
            <a:off x="4354560" y="2349000"/>
            <a:ext cx="503640" cy="6969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Immagine 7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0" name="CasellaDiTesto 9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tangolo 13"/>
          <p:cNvSpPr/>
          <p:nvPr/>
        </p:nvSpPr>
        <p:spPr>
          <a:xfrm>
            <a:off x="2435040" y="372240"/>
            <a:ext cx="6686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Num" idx="17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DB5A2D-F852-45FB-9F8D-65B1DB2DAA7A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"/>
          <p:cNvSpPr/>
          <p:nvPr/>
        </p:nvSpPr>
        <p:spPr>
          <a:xfrm flipV="1">
            <a:off x="539640" y="561960"/>
            <a:ext cx="849636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vanti o successivo 17">
            <a:hlinkClick r:id="" action="ppaction://hlinkshowjump?jump=nextslide"/>
          </p:cNvPr>
          <p:cNvSpPr/>
          <p:nvPr/>
        </p:nvSpPr>
        <p:spPr>
          <a:xfrm>
            <a:off x="8893080" y="6642000"/>
            <a:ext cx="250560" cy="21564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CasellaDiTesto 12"/>
          <p:cNvSpPr/>
          <p:nvPr/>
        </p:nvSpPr>
        <p:spPr>
          <a:xfrm>
            <a:off x="584640" y="980640"/>
            <a:ext cx="8137080" cy="60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201"/>
              </a:spcAf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Sulla base dell’elaborazione ed analisi dei dati dei sistemi informativi e dei nuovi disposti normat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  <a:ea typeface="PMingLiU"/>
              </a:rPr>
              <a:t>si è condiv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con rappresentanti SPreSAL, INAIL e ITL, facenti anche parte di appositi Gruppi di Lavoro costituiti dall’Assessorato della San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in sede di Ufficio Operativo del Comitato Regionale di Coordinamento di cui all’art. 7 del D.Lgs. 81/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in sede di Comitato Regionale di Coordinamento di cui all’art. 7 del D.Lgs. 81/08, anche con le Parti Soc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d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i</a:t>
            </a: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 realizzar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e</a:t>
            </a: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 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in ciascuna sede SPreSAL della regione</a:t>
            </a: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 Sardegna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 i PMP riportati nella successiva tabella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, con il coordinamento di una sede SPreSAL Capofila per ciascuno degli 8 P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ccia in giù 11"/>
          <p:cNvSpPr/>
          <p:nvPr/>
        </p:nvSpPr>
        <p:spPr>
          <a:xfrm>
            <a:off x="4492440" y="1989000"/>
            <a:ext cx="321840" cy="542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Immagine 6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8" name="CasellaDiTesto 8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tangolo 9"/>
          <p:cNvSpPr/>
          <p:nvPr/>
        </p:nvSpPr>
        <p:spPr>
          <a:xfrm>
            <a:off x="2385000" y="36216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Segnaposto contenuto 5"/>
          <p:cNvGraphicFramePr/>
          <p:nvPr/>
        </p:nvGraphicFramePr>
        <p:xfrm>
          <a:off x="106920" y="332640"/>
          <a:ext cx="8929440" cy="6408360"/>
        </p:xfrm>
        <a:graphic>
          <a:graphicData uri="http://schemas.openxmlformats.org/drawingml/2006/table">
            <a:tbl>
              <a:tblPr/>
              <a:tblGrid>
                <a:gridCol w="468720"/>
                <a:gridCol w="3703680"/>
                <a:gridCol w="2049840"/>
                <a:gridCol w="2706840"/>
              </a:tblGrid>
              <a:tr h="24552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ANI MIRATI DI PREVEN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 CAPOF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PI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 rowSpan="3"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per il rischio da esposizione ad amianto nell’ambito della rimozione delle tubazioni interrate in cemento amia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Sanl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o SPreSAL Carbonia-Sanl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i rischi di malattie professionali nel Comparto pes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Olbia dello SPreSAL Zona N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per il rischio da esposizione al radon nei luoghi di lavoro sotterranei, nei luoghi di lavoro semi sotterranei o al piano terra in aree a rischio radon/aree prioritarie, negli stabilimenti termali (D.Lgs. 101/20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o SPreSAL Zona 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l rischio cadute dall’alto nel comparto edili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Sassari dello SPreSAL Zona N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i rischi legati all’utilizzo di attrezzature agricole nel settore agrico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eSAL sede di Oristano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o SPreSAL Zona Cent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rowSpan="3">
                  <a:txBody>
                    <a:bodyPr lIns="68400" rIns="68400" tIns="34200" bIns="342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l rischio Stress Lavoro-Correlato nel compar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di Cagli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l rischio da sovraccarico biomeccanico - prevenzione patologie professionali muscolo-scheletriche nel comparto trasporti e log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Lanusei dello SPreSAL Zona 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del rischio cancerogeno per esposizione professionale a polveri di legno d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Carbonia dello SPreSAL Carbonia-Sanl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Freccia a destra 2"/>
          <p:cNvSpPr/>
          <p:nvPr/>
        </p:nvSpPr>
        <p:spPr>
          <a:xfrm>
            <a:off x="106920" y="4149000"/>
            <a:ext cx="432360" cy="456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tangolo 4"/>
          <p:cNvSpPr/>
          <p:nvPr/>
        </p:nvSpPr>
        <p:spPr>
          <a:xfrm>
            <a:off x="316800" y="803520"/>
            <a:ext cx="3168000" cy="91260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Sulla base degli obiet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e delle strategie d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Piani Mirati di Preven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5"/>
          <p:cNvSpPr/>
          <p:nvPr/>
        </p:nvSpPr>
        <p:spPr>
          <a:xfrm>
            <a:off x="4067640" y="784080"/>
            <a:ext cx="4571640" cy="91260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condivisi anche nel Comitato Regionale di Coordinamento di cui all’art. 7 del D.Lgs. 81/08, pure con le Parti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tangolo 6"/>
          <p:cNvSpPr/>
          <p:nvPr/>
        </p:nvSpPr>
        <p:spPr>
          <a:xfrm>
            <a:off x="323640" y="1943280"/>
            <a:ext cx="4176000" cy="118692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sono state predispo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le pian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ttangolo 7"/>
          <p:cNvSpPr/>
          <p:nvPr/>
        </p:nvSpPr>
        <p:spPr>
          <a:xfrm>
            <a:off x="4716000" y="1937160"/>
            <a:ext cx="3923640" cy="118692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parte degli appositi Gruppi di Lavoro comprendenti referenti dell’Assessorato Sanità, degli SPreSAL, dell’INAIL e degli I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ttangolo 8"/>
          <p:cNvSpPr/>
          <p:nvPr/>
        </p:nvSpPr>
        <p:spPr>
          <a:xfrm>
            <a:off x="971640" y="3320280"/>
            <a:ext cx="3528000" cy="146124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dei Programmi Predefin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PP6, PP7 e PP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con i relativi 8 Piani Mirati di Prevenzione (P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ttangolo 9"/>
          <p:cNvSpPr/>
          <p:nvPr/>
        </p:nvSpPr>
        <p:spPr>
          <a:xfrm>
            <a:off x="4680360" y="3874320"/>
            <a:ext cx="3923640" cy="91260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Macro Obiettivo 4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nfortuni e incidenti sul lavoro, malattie profession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ttangolo 10"/>
          <p:cNvSpPr/>
          <p:nvPr/>
        </p:nvSpPr>
        <p:spPr>
          <a:xfrm>
            <a:off x="251640" y="5157360"/>
            <a:ext cx="828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Inse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nel Piano Regionale della Prevenzione 2020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adottato con Deliberazione della Giunta Regionale n. 50/46 del 28.12.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blicata sul sito istituzionale reg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ccia in giù 11"/>
          <p:cNvSpPr/>
          <p:nvPr/>
        </p:nvSpPr>
        <p:spPr>
          <a:xfrm>
            <a:off x="323640" y="3213000"/>
            <a:ext cx="321840" cy="194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ttangolo 12"/>
          <p:cNvSpPr/>
          <p:nvPr/>
        </p:nvSpPr>
        <p:spPr>
          <a:xfrm>
            <a:off x="266040" y="6331320"/>
            <a:ext cx="856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s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://delibere.regione.sardegna.it/it/homepage.page?selectedNode=date_2021_12_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 flipV="1">
            <a:off x="266040" y="54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magine 15" descr=""/>
          <p:cNvPicPr/>
          <p:nvPr/>
        </p:nvPicPr>
        <p:blipFill>
          <a:blip r:embed="rId3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23" name="CasellaDiTesto 16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ttangolo 17"/>
          <p:cNvSpPr/>
          <p:nvPr/>
        </p:nvSpPr>
        <p:spPr>
          <a:xfrm>
            <a:off x="2244960" y="37260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ttangolo arrotondato 25"/>
          <p:cNvSpPr/>
          <p:nvPr/>
        </p:nvSpPr>
        <p:spPr>
          <a:xfrm>
            <a:off x="3056400" y="614520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it-IT" sz="1800" spc="-1" strike="noStrike">
                <a:solidFill>
                  <a:schemeClr val="dk1"/>
                </a:solidFill>
                <a:latin typeface="Arial"/>
              </a:rPr>
              <a:t>PIANO MIRATO DI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ttangolo arrotondato 1"/>
          <p:cNvSpPr/>
          <p:nvPr/>
        </p:nvSpPr>
        <p:spPr>
          <a:xfrm>
            <a:off x="2908800" y="2061000"/>
            <a:ext cx="39672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ASSIS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100" spc="-1" strike="noStrike">
                <a:solidFill>
                  <a:schemeClr val="dk1"/>
                </a:solidFill>
                <a:latin typeface="Calibri"/>
              </a:rPr>
              <a:t>(</a:t>
            </a:r>
            <a:r>
              <a:rPr b="0" lang="it-IT" sz="1100" spc="-1" strike="noStrike">
                <a:solidFill>
                  <a:schemeClr val="dk1"/>
                </a:solidFill>
                <a:latin typeface="Calibri"/>
              </a:rPr>
              <a:t>progettazione, seminario di avvio, informazione e formazion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roce 2"/>
          <p:cNvSpPr/>
          <p:nvPr/>
        </p:nvSpPr>
        <p:spPr>
          <a:xfrm>
            <a:off x="4674240" y="4504320"/>
            <a:ext cx="436680" cy="436680"/>
          </a:xfrm>
          <a:prstGeom prst="mathPlus">
            <a:avLst>
              <a:gd name="adj1" fmla="val 2352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Rettangolo arrotondato 13"/>
          <p:cNvSpPr/>
          <p:nvPr/>
        </p:nvSpPr>
        <p:spPr>
          <a:xfrm>
            <a:off x="2908800" y="5013000"/>
            <a:ext cx="39672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VALUTAZIONE EF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tangolo arrotondato 18"/>
          <p:cNvSpPr/>
          <p:nvPr/>
        </p:nvSpPr>
        <p:spPr>
          <a:xfrm>
            <a:off x="2908800" y="3530520"/>
            <a:ext cx="39672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VIGI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roce 20"/>
          <p:cNvSpPr/>
          <p:nvPr/>
        </p:nvSpPr>
        <p:spPr>
          <a:xfrm>
            <a:off x="4674240" y="3006360"/>
            <a:ext cx="436680" cy="436680"/>
          </a:xfrm>
          <a:prstGeom prst="mathPlus">
            <a:avLst>
              <a:gd name="adj1" fmla="val 2352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31" name="Connettore 1 12"/>
          <p:cNvCxnSpPr/>
          <p:nvPr/>
        </p:nvCxnSpPr>
        <p:spPr>
          <a:xfrm>
            <a:off x="2067840" y="6021000"/>
            <a:ext cx="502452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232" name="Rettangolo 14"/>
          <p:cNvSpPr/>
          <p:nvPr/>
        </p:nvSpPr>
        <p:spPr>
          <a:xfrm>
            <a:off x="2072160" y="2286720"/>
            <a:ext cx="79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tangolo 24"/>
          <p:cNvSpPr/>
          <p:nvPr/>
        </p:nvSpPr>
        <p:spPr>
          <a:xfrm>
            <a:off x="2072160" y="3777840"/>
            <a:ext cx="79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tangolo 27"/>
          <p:cNvSpPr/>
          <p:nvPr/>
        </p:nvSpPr>
        <p:spPr>
          <a:xfrm>
            <a:off x="2072160" y="5260680"/>
            <a:ext cx="79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ccia in giù 15"/>
          <p:cNvSpPr/>
          <p:nvPr/>
        </p:nvSpPr>
        <p:spPr>
          <a:xfrm>
            <a:off x="1667160" y="2032560"/>
            <a:ext cx="367560" cy="3960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Rettangolo arrotondato 21"/>
          <p:cNvSpPr/>
          <p:nvPr/>
        </p:nvSpPr>
        <p:spPr>
          <a:xfrm>
            <a:off x="742680" y="94284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 flipV="1">
            <a:off x="223560" y="603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ttangolo arrotondato 17"/>
          <p:cNvSpPr/>
          <p:nvPr/>
        </p:nvSpPr>
        <p:spPr>
          <a:xfrm>
            <a:off x="755640" y="98064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magine 22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40" name="CasellaDiTesto 26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ttangolo 28"/>
          <p:cNvSpPr/>
          <p:nvPr/>
        </p:nvSpPr>
        <p:spPr>
          <a:xfrm>
            <a:off x="2364480" y="396360"/>
            <a:ext cx="67658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me dicevamo i PMP si sviluppano in tre macrofasi…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Assistenza:  fase 1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prima fase (assistenza) riguarda l’analisi e progettazione del Piano Mirato, sviluppata a livello territoriale con la formazione di un gruppo di lavoro composto da ASL e Parti sociali (es. Associazioni di categoria, organizzazioni sindacali, Ordini, ecc.).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E’ uno dei momenti cardine del PMP, in cui viene predisposta la scheda di autovalutazione e tutta la documentazione di supporto da trasmettere alle aziende coinvolt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 Comprende un momento di presentazione alle aziende, attraverso uno o più seminari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ttangolo arrotondato 8"/>
          <p:cNvSpPr/>
          <p:nvPr/>
        </p:nvSpPr>
        <p:spPr>
          <a:xfrm>
            <a:off x="520920" y="2199960"/>
            <a:ext cx="8342280" cy="446904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Rettangolo 21"/>
          <p:cNvSpPr/>
          <p:nvPr/>
        </p:nvSpPr>
        <p:spPr>
          <a:xfrm>
            <a:off x="605520" y="2512800"/>
            <a:ext cx="81133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azione di dettaglio del PMP nell’ambito di un apposito Gruppo di Lavor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mprend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finizione dei criteri di ricerca/selezione delle impr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a coinvolgere nel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fini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e modalità di coinvolgimento delle impr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nel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same di  buone prassi/buone pratich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già applicate in ambito nazionale per il comparto/rischio di interesse, o stesura di buone pratiche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 redazione del relativo Doc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edisposizione di una scheda di autovalutazione aziendal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 somministrare alle imprese, o adattamento alla realtà locale di schede già disponi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dividuazione degli indicatori per la valutazione dell’efficaci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ttangolo 1"/>
          <p:cNvSpPr/>
          <p:nvPr/>
        </p:nvSpPr>
        <p:spPr>
          <a:xfrm>
            <a:off x="51480" y="3346920"/>
            <a:ext cx="553680" cy="22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GET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vanti o successivo 12">
            <a:hlinkClick r:id="" action="ppaction://hlinkshowjump?jump=nextslide"/>
          </p:cNvPr>
          <p:cNvSpPr/>
          <p:nvPr/>
        </p:nvSpPr>
        <p:spPr>
          <a:xfrm>
            <a:off x="8928720" y="6669360"/>
            <a:ext cx="214920" cy="18828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ttangolo arrotondato 13"/>
          <p:cNvSpPr/>
          <p:nvPr/>
        </p:nvSpPr>
        <p:spPr>
          <a:xfrm>
            <a:off x="242640" y="1394640"/>
            <a:ext cx="8649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FASE 1 ASSISTENZA - Progettazione</a:t>
            </a:r>
            <a:r>
              <a:rPr b="0" lang="it-IT" sz="1800" spc="-1" strike="noStrike">
                <a:solidFill>
                  <a:schemeClr val="dk1"/>
                </a:solidFill>
                <a:latin typeface="Calibri"/>
              </a:rPr>
              <a:t>: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attività svolte da settembre 2021 a settembre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 flipV="1">
            <a:off x="267840" y="6346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ttangolo arrotondato 15"/>
          <p:cNvSpPr/>
          <p:nvPr/>
        </p:nvSpPr>
        <p:spPr>
          <a:xfrm>
            <a:off x="742680" y="94284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52" name="CasellaDiTesto 11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ttangolo 16"/>
          <p:cNvSpPr/>
          <p:nvPr/>
        </p:nvSpPr>
        <p:spPr>
          <a:xfrm>
            <a:off x="2311200" y="44496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1" lang="it-IT" sz="8800" spc="-1" strike="noStrike">
                <a:solidFill>
                  <a:srgbClr val="ff0000"/>
                </a:solidFill>
                <a:latin typeface="Calibri"/>
              </a:rPr>
              <a:t>Come sarà articolata questa giornata</a:t>
            </a:r>
            <a:endParaRPr b="0" lang="it-IT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ttangolo arrotondato 8"/>
          <p:cNvSpPr/>
          <p:nvPr/>
        </p:nvSpPr>
        <p:spPr>
          <a:xfrm>
            <a:off x="718560" y="1514520"/>
            <a:ext cx="8274240" cy="280656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Rettangolo 21"/>
          <p:cNvSpPr/>
          <p:nvPr/>
        </p:nvSpPr>
        <p:spPr>
          <a:xfrm>
            <a:off x="692280" y="1573560"/>
            <a:ext cx="82742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1440" indent="-271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ealizzazion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minario di avvio</a:t>
            </a:r>
            <a:r>
              <a:rPr b="1" lang="it-IT" sz="1800" spc="-1" strike="noStrike">
                <a:solidFill>
                  <a:srgbClr val="2016e4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anno 2022)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cui sono state invitate le imprese selezionate - anche mediante la collaborazione con associazioni di categoria/organizzazioni sindacali/enti bilaterali/organismi paritetici - p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presentazione del PMP e delle relative final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ivisione degli 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ivisione del Documento di buone prat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ivisione e la distribuzione della scheda di autovalutazione aziendale, da restituire successivamente, debitamente compilata, allo SPreSAL territorialmente compe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-33120" y="2271960"/>
            <a:ext cx="799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SEM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I AV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ttangolo 10"/>
          <p:cNvSpPr/>
          <p:nvPr/>
        </p:nvSpPr>
        <p:spPr>
          <a:xfrm>
            <a:off x="-54720" y="4549320"/>
            <a:ext cx="799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E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tangolo arrotondato 11"/>
          <p:cNvSpPr/>
          <p:nvPr/>
        </p:nvSpPr>
        <p:spPr>
          <a:xfrm>
            <a:off x="719280" y="4419360"/>
            <a:ext cx="8273160" cy="235944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Rettangolo 12"/>
          <p:cNvSpPr/>
          <p:nvPr/>
        </p:nvSpPr>
        <p:spPr>
          <a:xfrm>
            <a:off x="719280" y="4447080"/>
            <a:ext cx="82731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orm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 personale SPreSAL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possibilmente anche</a:t>
            </a:r>
            <a:r>
              <a:rPr b="1" lang="it-IT" sz="1800" spc="-1" strike="noStrike">
                <a:solidFill>
                  <a:srgbClr val="2016e4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gli altri Organi di Vigilanza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anno 20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terventi di comunicazione/informazion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ull’aggiornamento delle buone pratiche e/o materiale documentale/informativo nei portali istituzionali e in quelli degli stakeholder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dal 2022 al 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ormazione delle figure aziendali della prevenzione delle imprese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anno 2023)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e assistenza alle impr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dal 2023 al 2025)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merito, tra l’altro, ai contenuti del Documento sulle buone pratiche condiviso nel seminario di av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ttangolo arrotondato 13"/>
          <p:cNvSpPr/>
          <p:nvPr/>
        </p:nvSpPr>
        <p:spPr>
          <a:xfrm>
            <a:off x="1403640" y="1063440"/>
            <a:ext cx="6634080" cy="37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FASE 1 ASSISTENZA: </a:t>
            </a:r>
            <a:r>
              <a:rPr b="0" lang="it-IT" sz="1800" spc="-1" strike="noStrike">
                <a:solidFill>
                  <a:schemeClr val="dk1"/>
                </a:solidFill>
                <a:latin typeface="Calibri"/>
              </a:rPr>
              <a:t>seminario di avvio, informazione e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 flipV="1">
            <a:off x="206640" y="52092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ttangolo arrotondato 15"/>
          <p:cNvSpPr/>
          <p:nvPr/>
        </p:nvSpPr>
        <p:spPr>
          <a:xfrm>
            <a:off x="767160" y="62280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magine 16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64" name="CasellaDiTesto 18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ttangolo 19"/>
          <p:cNvSpPr/>
          <p:nvPr/>
        </p:nvSpPr>
        <p:spPr>
          <a:xfrm>
            <a:off x="2233800" y="33552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7640" y="11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se 2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7640" y="1124640"/>
            <a:ext cx="8218800" cy="500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Vigilanz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seconda fase (vigilanza) comprende due distinti momenti. Il primo riguarda lo sviluppo in azienda del processo di autovalutazione con la compilazione della scheda dedicata, con l’obiettivo di stimolare le Aziende a compiere una riflessione sulla propria conformità legislativa (ma non solo) in rapporto al piano in cui è stata coinvolta. Solo successivamente si esplicherà l’attività di vigilanza da parte delle ASL,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attivata su un campione delle aziende coinvolte nel PMP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 Monitoraggio dell’attuazione del PMP con: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same delle schede di autovalutazione aziendale ricevute dalle imprese (2023-2024)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spezione in un campione di imprese coinvolte nel PMP, a partire da quelle che non hanno restituito la scheda di autovalutazione compilata e da quelle per le quali si sono rilevate situazioni a rischio dall’esame della scheda di autovalutazione (2024-2025)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ttangolo arrotondato 10"/>
          <p:cNvSpPr/>
          <p:nvPr/>
        </p:nvSpPr>
        <p:spPr>
          <a:xfrm>
            <a:off x="249840" y="1905480"/>
            <a:ext cx="8643600" cy="220608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Rettangolo 21"/>
          <p:cNvSpPr/>
          <p:nvPr/>
        </p:nvSpPr>
        <p:spPr>
          <a:xfrm>
            <a:off x="320760" y="1942560"/>
            <a:ext cx="857304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onitoraggio dell’attuazione del PMP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67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ame delle schede di autovalutazione aziendale ricevute dalle imprese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2023-20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pezione in un campione di imprese coinvolte nel PMP, a partire da quelle che non hanno restituito la scheda di autovalutazione compilata e da quelle per le quali si sono rilevate situazioni a rischio dall’esame della scheda di autovalutazione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2024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ttangolo arrotondato 18"/>
          <p:cNvSpPr/>
          <p:nvPr/>
        </p:nvSpPr>
        <p:spPr>
          <a:xfrm>
            <a:off x="3026160" y="1334880"/>
            <a:ext cx="3024000" cy="45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FASE 2: VIGI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ttangolo arrotondato 16"/>
          <p:cNvSpPr/>
          <p:nvPr/>
        </p:nvSpPr>
        <p:spPr>
          <a:xfrm>
            <a:off x="755640" y="77580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 flipV="1">
            <a:off x="136080" y="51444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Immagine 12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74" name="CasellaDiTesto 20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ttangolo 22"/>
          <p:cNvSpPr/>
          <p:nvPr/>
        </p:nvSpPr>
        <p:spPr>
          <a:xfrm>
            <a:off x="2042640" y="352440"/>
            <a:ext cx="6974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se 3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lla terza ed ultima fase (valutazione efficacia) non solo verranno resi noti i risultati complessivi del Piano Mirato di Prevenzione, ma saranno anche raccolte e diffuse buone pratiche e misure di miglioramento, con il coinvolgimento dei vari stakeholders interessati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 algn="just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Preved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- sulla base degli indicatori per la valutazione di efficacia definiti nella progettazione e delle informazioni reperite nella Fase 2 di vigilanza -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la verifica dell’efficacia del PMP attu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con particolare riferimento a: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nalisi delle buone pratiche applicate e delle misure di miglioramento attuate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stituzione dei risultati anche con pubblicazione nei portali istituzionali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699640" y="692640"/>
            <a:ext cx="4352400" cy="523440"/>
          </a:xfrm>
          <a:prstGeom prst="rect">
            <a:avLst/>
          </a:prstGeom>
          <a:ln w="0">
            <a:noFill/>
          </a:ln>
        </p:spPr>
      </p:pic>
      <p:sp>
        <p:nvSpPr>
          <p:cNvPr id="280" name="Rettangolo 3"/>
          <p:cNvSpPr/>
          <p:nvPr/>
        </p:nvSpPr>
        <p:spPr>
          <a:xfrm>
            <a:off x="7061040" y="770040"/>
            <a:ext cx="123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ttangolo arrotondato 8"/>
          <p:cNvSpPr/>
          <p:nvPr/>
        </p:nvSpPr>
        <p:spPr>
          <a:xfrm>
            <a:off x="2897640" y="836640"/>
            <a:ext cx="4842360" cy="575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GLI OBIETTIVI DEI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 flipV="1">
            <a:off x="280800" y="54396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ttangolo 26"/>
          <p:cNvSpPr/>
          <p:nvPr/>
        </p:nvSpPr>
        <p:spPr>
          <a:xfrm>
            <a:off x="192600" y="1484640"/>
            <a:ext cx="84837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Increment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a consapevolezza dei datori di lavoro sui rischi professionali e sulle conseguenze dovute al mancato rispetto delle norme di sicurez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Fornire conoscenz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l fenomeno infortunistico/tecnopatico di un dato comparto nel quadro di riferimento territori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Favorire l’adozion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parte delle imprese di soluzioni tecniche, organizzative e procedurali coerenti con la normativa vigente e con le norme di buona tecnica,  che abbiano provata efficacia nella riduzione dei rischi e nel miglioramento delle condizioni di lavoro, al fine di ridurre gli infortuni nei luoghi di lavoro – con particolare attenzione a quelli gravi e mortali - e le malattie profession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Facilitare l’acces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e imprese all’informazione e allo sviluppo di conoscenze relativamente ai rischi lavorativ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Organizz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modo sinergico le attività di assistenza e vigilanza alle imprese, supportandole anche con la collaborazione sul territorio delle istituzioni, e garantendo trasparenza, equità e uniformità dell’azione pubbl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ome formulare correttamente un obiettivo. (Definizione dell&amp;#39;obiettivo) –  Eccellente Donna"/>
          <p:cNvPicPr/>
          <p:nvPr/>
        </p:nvPicPr>
        <p:blipFill>
          <a:blip r:embed="rId1"/>
          <a:stretch/>
        </p:blipFill>
        <p:spPr>
          <a:xfrm>
            <a:off x="467640" y="464760"/>
            <a:ext cx="2448000" cy="1223640"/>
          </a:xfrm>
          <a:prstGeom prst="rect">
            <a:avLst/>
          </a:prstGeom>
          <a:ln w="0">
            <a:noFill/>
          </a:ln>
        </p:spPr>
      </p:pic>
      <p:pic>
        <p:nvPicPr>
          <p:cNvPr id="285" name="Immagine 5" descr=""/>
          <p:cNvPicPr/>
          <p:nvPr/>
        </p:nvPicPr>
        <p:blipFill>
          <a:blip r:embed="rId2"/>
          <a:stretch/>
        </p:blipFill>
        <p:spPr>
          <a:xfrm>
            <a:off x="0" y="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86" name="CasellaDiTesto 6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tangolo 8"/>
          <p:cNvSpPr/>
          <p:nvPr/>
        </p:nvSpPr>
        <p:spPr>
          <a:xfrm>
            <a:off x="2120760" y="37152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ttangolo 7"/>
          <p:cNvSpPr/>
          <p:nvPr/>
        </p:nvSpPr>
        <p:spPr>
          <a:xfrm>
            <a:off x="2471400" y="344520"/>
            <a:ext cx="66963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 flipV="1">
            <a:off x="-34200" y="530280"/>
            <a:ext cx="9126360" cy="453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tangolo 1"/>
          <p:cNvSpPr/>
          <p:nvPr/>
        </p:nvSpPr>
        <p:spPr>
          <a:xfrm>
            <a:off x="9720" y="558720"/>
            <a:ext cx="914364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EMINARIO DI AV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PIANO MIRATO DI PREVEN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it-IT" sz="1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el rischio LEGATO ALL’UTILIZZO DI ATTREZZATURE AGRICOLE NEL SETTORE DELLAGRICOLTURA E SULLA PROMOZIONE DELLA QUALITA’, DELL’APPROPIATEZZA E DELL’EFFEICACIA A DELLA SORVEGLIAZA SANITARIA PREVENTIVA E PERIODICA SVOLTA DAI MEDICI COMPETEN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it-IT" sz="20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alibri"/>
              </a:rPr>
              <a:t>Programma della gior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Tabella 2"/>
          <p:cNvGraphicFramePr/>
          <p:nvPr/>
        </p:nvGraphicFramePr>
        <p:xfrm>
          <a:off x="24120" y="1706760"/>
          <a:ext cx="9143640" cy="4620960"/>
        </p:xfrm>
        <a:graphic>
          <a:graphicData uri="http://schemas.openxmlformats.org/drawingml/2006/table">
            <a:tbl>
              <a:tblPr/>
              <a:tblGrid>
                <a:gridCol w="1403640"/>
                <a:gridCol w="5328360"/>
                <a:gridCol w="241164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1163520"/>
                        </a:tabLst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rgo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lato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SPreSAL sede di  Carboni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ccoglienza e registrazione pres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aluti e presenta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 Piani Mirati di Prevenzione nell’ambito del Piano Nazionale della Prevenzione e del Piano Regionale della Prevenzione 2020-20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li infortuni in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Piano Mirato di Prevenzione del rischio legato all’utilizzo di attrezzature agricole nel settore agricoltur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6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Documento di buone pratiche del Piano Mirato di Prevenzione  legato all’utilizzo di attrezzature agricole nel settore agricoltur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 Scheda di autovalutazione aziendale del Piano Mirato di Prevenzione del rischio legato all’utilizzo di attrezzature agricole nel settore agricoltur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azio per domande e discussione (eventualment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pic>
        <p:nvPicPr>
          <p:cNvPr id="142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43" name="Rettangolo con angoli arrotondati 3"/>
          <p:cNvSpPr/>
          <p:nvPr/>
        </p:nvSpPr>
        <p:spPr>
          <a:xfrm>
            <a:off x="24120" y="3141000"/>
            <a:ext cx="9103680" cy="575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CasellaDiTesto 10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ccia in giù 1"/>
          <p:cNvSpPr/>
          <p:nvPr/>
        </p:nvSpPr>
        <p:spPr>
          <a:xfrm>
            <a:off x="4370040" y="1876680"/>
            <a:ext cx="465120" cy="349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Rettangolo 3"/>
          <p:cNvSpPr/>
          <p:nvPr/>
        </p:nvSpPr>
        <p:spPr>
          <a:xfrm>
            <a:off x="133560" y="3435840"/>
            <a:ext cx="875844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Piano Nazionale della Preven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N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la sua declinazione regionale, che si realizza con l’adozione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Piano Regionale della Preven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N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volg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un ruolo fondamentale di governance e orientamento della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vorendo l’inte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 le diverse azioni previste dalla normativa vigente o dai Piani di se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ttangolo arrotondato 13"/>
          <p:cNvSpPr/>
          <p:nvPr/>
        </p:nvSpPr>
        <p:spPr>
          <a:xfrm>
            <a:off x="683640" y="1187280"/>
            <a:ext cx="7848360" cy="520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l Piano Nazionale della Prevenzione 2020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tangolo 4"/>
          <p:cNvSpPr/>
          <p:nvPr/>
        </p:nvSpPr>
        <p:spPr>
          <a:xfrm>
            <a:off x="838800" y="2253600"/>
            <a:ext cx="7527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rappresenta il quadro strategico plurien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delle politiche di prevenzione e di promozione della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ccia in giù 14"/>
          <p:cNvSpPr/>
          <p:nvPr/>
        </p:nvSpPr>
        <p:spPr>
          <a:xfrm>
            <a:off x="4303080" y="4760640"/>
            <a:ext cx="465120" cy="59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 flipV="1">
            <a:off x="204120" y="64476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52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1"/>
          <p:cNvSpPr/>
          <p:nvPr/>
        </p:nvSpPr>
        <p:spPr>
          <a:xfrm>
            <a:off x="2226600" y="425160"/>
            <a:ext cx="668988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in  sostanza cos’è e perché nasce il piano mirato?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iani Mirati di Prevenzione nascono con l’obiettivo di migliorare le condizioni di salute e sicurezza nei luoghi di lavoro, non più solo attraverso le attività di vigilanza affidate ai soggetti preposti quali le Aziende Sanitarie Locali e l’Ispettorato Nazionale del Lavoro, ma attraverso la creazione di un rapporto sinergico tra istituzioni ed imprese finalizzato alla prevenzione del rischio. 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E’ infatti ormai assodato, per assenza di studi che provano il contrario, che le azioni repressive attraverso la sola vigilanza non sono più sufficienti a ridurre morti ed infortuni sul lavoro, senza dimenticare le malattie professionali, ma è necessario un ruolo più proattivo da parte del controllore nei confronti del controll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168720" y="4509000"/>
            <a:ext cx="3635280" cy="18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E’ un nuovo strumento di prevenzione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MP traggono origine dai Piani Nazionale di Prevenzione, ultimo il PNP 2020-25,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che riconoscono nei Piani Mirati di Prevenzione (PMP) uno strumento in grado di creare una maggiore consapevolezza sui rischi presenti in azienda da parte dei soggetti del Servizio di prevenzione e protezione, ed in particolare del Datore di lavoro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Num" idx="13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DEFC6E-5548-4211-9EA7-CB69115F7085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 flipV="1">
            <a:off x="539640" y="561960"/>
            <a:ext cx="838476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vanti o successivo 17">
            <a:hlinkClick r:id="" action="ppaction://hlinkshowjump?jump=nextslide"/>
          </p:cNvPr>
          <p:cNvSpPr/>
          <p:nvPr/>
        </p:nvSpPr>
        <p:spPr>
          <a:xfrm>
            <a:off x="8893080" y="6642000"/>
            <a:ext cx="250560" cy="21564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CasellaDiTesto 9"/>
          <p:cNvSpPr/>
          <p:nvPr/>
        </p:nvSpPr>
        <p:spPr>
          <a:xfrm>
            <a:off x="143640" y="1695600"/>
            <a:ext cx="8927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0" lang="it-IT" sz="2300" spc="-1" strike="noStrike">
                <a:solidFill>
                  <a:srgbClr val="2016e4"/>
                </a:solidFill>
                <a:latin typeface="Cambria"/>
              </a:rPr>
              <a:t>La Giunta Regionale, con Deliberazione n. 67/3 del 31 dicembre 20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</a:pPr>
            <a:r>
              <a:rPr b="0" lang="it-IT" sz="2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ccia angolare bidirezionale 2"/>
          <p:cNvSpPr/>
          <p:nvPr/>
        </p:nvSpPr>
        <p:spPr>
          <a:xfrm rot="13377000">
            <a:off x="4032360" y="3056400"/>
            <a:ext cx="1079280" cy="1063440"/>
          </a:xfrm>
          <a:prstGeom prst="leftUpArrow">
            <a:avLst>
              <a:gd name="adj1" fmla="val 25000"/>
              <a:gd name="adj2" fmla="val 25000"/>
              <a:gd name="adj3" fmla="val 25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asellaDiTesto 12"/>
          <p:cNvSpPr/>
          <p:nvPr/>
        </p:nvSpPr>
        <p:spPr>
          <a:xfrm>
            <a:off x="217440" y="4613400"/>
            <a:ext cx="43272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mbria"/>
              </a:rPr>
              <a:t>ha recepito  l’Intesa Stato-Regioni n.127/CSR del 6 agosto 2020 di approvazione del PNP 2020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sellaDiTesto 14"/>
          <p:cNvSpPr/>
          <p:nvPr/>
        </p:nvSpPr>
        <p:spPr>
          <a:xfrm>
            <a:off x="4865760" y="4613400"/>
            <a:ext cx="4059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mbria"/>
              </a:rPr>
              <a:t>ha assunto l’impegno di adottare il PRP 2020-2025 in coerenza con la visione, i principi, le priorità e la struttura del PNP 2020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magine 8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68" name="CasellaDiTesto 10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11"/>
          <p:cNvSpPr/>
          <p:nvPr/>
        </p:nvSpPr>
        <p:spPr>
          <a:xfrm>
            <a:off x="2294640" y="362160"/>
            <a:ext cx="6686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1"/>
          <p:cNvSpPr/>
          <p:nvPr/>
        </p:nvSpPr>
        <p:spPr>
          <a:xfrm>
            <a:off x="827640" y="548640"/>
            <a:ext cx="7776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istituzioni, (REGIONE)  attraverso le Aziende sanitarie locali, possono creare delle vere e proprie sinergie con le imprese, non più solo attraverso le attività di vigilanza (art. 13 D.Lgs. 81/08) ma sviluppando azioni congiunte di vigilanza-assistenza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, mediante un modello partecipativo per la prevenzione dei rischi nei luoghi di lavor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49</TotalTime>
  <Application>LibreOffice/7.4.7.2$Linux_X86_64 LibreOffice_project/40$Build-2</Application>
  <AppVersion>15.0000</AppVersion>
  <Words>2861</Words>
  <Paragraphs>314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0:35:22Z</dcterms:created>
  <dc:creator>Paolo Desogus</dc:creator>
  <dc:description/>
  <dc:language>en-US</dc:language>
  <cp:lastModifiedBy>Ignazio Espa  </cp:lastModifiedBy>
  <dcterms:modified xsi:type="dcterms:W3CDTF">2022-09-29T10:32:24Z</dcterms:modified>
  <cp:revision>71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25</vt:r8>
  </property>
</Properties>
</file>